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37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3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3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598A-AED9-4665-A961-7714A68D0A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11BB6-9B97-4A34-94B4-3361866CB5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9080" y="4760640"/>
            <a:ext cx="50500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81.xml"/><Relationship Id="rId14" Type="http://schemas.openxmlformats.org/officeDocument/2006/relationships/slideLayout" Target="../slideLayouts/slideLayout182.xml"/><Relationship Id="rId15" Type="http://schemas.openxmlformats.org/officeDocument/2006/relationships/slideLayout" Target="../slideLayouts/slideLayout183.xml"/><Relationship Id="rId16" Type="http://schemas.openxmlformats.org/officeDocument/2006/relationships/slideLayout" Target="../slideLayouts/slideLayout184.xml"/><Relationship Id="rId17" Type="http://schemas.openxmlformats.org/officeDocument/2006/relationships/slideLayout" Target="../slideLayouts/slideLayout185.xml"/><Relationship Id="rId18" Type="http://schemas.openxmlformats.org/officeDocument/2006/relationships/slideLayout" Target="../slideLayouts/slideLayout186.xml"/><Relationship Id="rId19" Type="http://schemas.openxmlformats.org/officeDocument/2006/relationships/slideLayout" Target="../slideLayouts/slideLayout187.xml"/><Relationship Id="rId20" Type="http://schemas.openxmlformats.org/officeDocument/2006/relationships/slideLayout" Target="../slideLayouts/slideLayout188.xml"/><Relationship Id="rId21" Type="http://schemas.openxmlformats.org/officeDocument/2006/relationships/slideLayout" Target="../slideLayouts/slideLayout189.xml"/><Relationship Id="rId22" Type="http://schemas.openxmlformats.org/officeDocument/2006/relationships/slideLayout" Target="../slideLayouts/slideLayout190.xml"/><Relationship Id="rId23" Type="http://schemas.openxmlformats.org/officeDocument/2006/relationships/slideLayout" Target="../slideLayouts/slideLayout191.xml"/><Relationship Id="rId2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5599-3C07-46D1-ABAD-FEB3F21C647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8" descr="prava_rus"/>
          <p:cNvPicPr/>
          <p:nvPr/>
        </p:nvPicPr>
        <p:blipFill>
          <a:blip r:embed="rId5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0" name="Picture 9" descr="prava_rus"/>
          <p:cNvPicPr/>
          <p:nvPr/>
        </p:nvPicPr>
        <p:blipFill>
          <a:blip r:embed="rId8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111_a"/>
          <p:cNvPicPr/>
          <p:nvPr/>
        </p:nvPicPr>
        <p:blipFill>
          <a:blip r:embed="rId9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E8CC4-B28B-46DF-9A32-B1C80D96D27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1979-C01A-426B-8719-433E7BFE84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553A-8687-4018-9205-ADC203AA631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1F4A-1C4C-4AD6-8F83-FD38185BF3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C5C32-8ED2-4880-A104-5E02D86323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95B5-F126-432B-B166-074BC1602C4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0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2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4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BE94-429F-4512-BB63-67B48D4908C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3"/>
    <p:sldLayoutId id="2147483845" r:id="rId14"/>
    <p:sldLayoutId id="2147483846" r:id="rId15"/>
    <p:sldLayoutId id="2147483847" r:id="rId16"/>
    <p:sldLayoutId id="2147483848" r:id="rId17"/>
    <p:sldLayoutId id="2147483849" r:id="rId18"/>
    <p:sldLayoutId id="2147483850" r:id="rId19"/>
    <p:sldLayoutId id="2147483851" r:id="rId20"/>
    <p:sldLayoutId id="2147483852" r:id="rId21"/>
    <p:sldLayoutId id="2147483853" r:id="rId22"/>
    <p:sldLayoutId id="2147483854" r:id="rId23"/>
    <p:sldLayoutId id="2147483855" r:id="rId2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FDF7A-0032-4767-BCED-2B9353FFC5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5E83-2ACC-429E-B72F-BA953692439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5220-F5BE-40A3-8F3E-05C8DBA68B9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D8EF-980B-4965-8534-99BF9B76D0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08560-031A-4B2A-823A-A42E7DB49C6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0F8A-3E0A-4843-AC70-A25CFE62D3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7530-282C-4C11-BAA2-48F6E1DBB5F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E3D35-1C6A-45B5-9F7F-84DBFE30D70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DDFD-54BA-431F-B39E-D0CD367539E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25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Object 26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27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9853-2825-4869-907E-8CC4CC465E3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4427640" y="4437000"/>
            <a:ext cx="47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 Петровна Цыбуль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ФПКР  КИМ для проведения государственной итоговой аттестации по русскому языку ФГБНУ «ФИПИ», ведущий научный сотрудник ФИПИ, к.п.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4"/>
          <p:cNvSpPr/>
          <p:nvPr/>
        </p:nvSpPr>
        <p:spPr>
          <a:xfrm>
            <a:off x="501480" y="2492280"/>
            <a:ext cx="8642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6"/>
          <p:cNvSpPr/>
          <p:nvPr/>
        </p:nvSpPr>
        <p:spPr>
          <a:xfrm>
            <a:off x="3824640" y="6237360"/>
            <a:ext cx="1905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4649"/>
                </a:solidFill>
                <a:latin typeface="Arial"/>
              </a:rPr>
              <a:t>28 октября 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547640" y="126828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ценочных процедур в целях построения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55640" y="27669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ходах к интерпретации результатов государственной итоговой аттестации по русскому языку в контексте совершенствования  ОГЭ и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Рисунок 1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100840" cy="26636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1116000" y="5457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полнения задания 25 на основе анализа среднего суммарного процента выполнения первых четырех критериев (К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4) оценива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6985080" cy="352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812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Arial"/>
              </a:rPr>
              <a:t>Структура коммуникативной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0920" y="1890360"/>
            <a:ext cx="79930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108000" y="3933720"/>
            <a:ext cx="64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e46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Organization Chart 5"/>
          <p:cNvGrpSpPr/>
          <p:nvPr/>
        </p:nvGrpSpPr>
        <p:grpSpPr>
          <a:xfrm>
            <a:off x="431640" y="2332080"/>
            <a:ext cx="8209080" cy="3219480"/>
            <a:chOff x="431640" y="2332080"/>
            <a:chExt cx="8209080" cy="3219480"/>
          </a:xfrm>
        </p:grpSpPr>
        <p:cxnSp>
          <p:nvCxnSpPr>
            <p:cNvPr id="863" name="_s11268"/>
            <p:cNvCxnSpPr>
              <a:stCxn id="864" idx="1"/>
              <a:endCxn id="865" idx="2"/>
            </p:cNvCxnSpPr>
            <p:nvPr/>
          </p:nvCxnSpPr>
          <p:spPr>
            <a:xfrm rot="10800000">
              <a:off x="686520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6" name="_s11269"/>
            <p:cNvCxnSpPr>
              <a:stCxn id="867" idx="0"/>
              <a:endCxn id="868" idx="2"/>
            </p:cNvCxnSpPr>
            <p:nvPr/>
          </p:nvCxnSpPr>
          <p:spPr>
            <a:xfrm flipV="1" rot="16200000">
              <a:off x="1282680" y="5002200"/>
              <a:ext cx="2199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9" name="_s11270"/>
            <p:cNvCxnSpPr>
              <a:stCxn id="870" idx="0"/>
              <a:endCxn id="871" idx="2"/>
            </p:cNvCxnSpPr>
            <p:nvPr/>
          </p:nvCxnSpPr>
          <p:spPr>
            <a:xfrm flipV="1" rot="16200000">
              <a:off x="3713400" y="5002200"/>
              <a:ext cx="2199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2" name="_s11271"/>
            <p:cNvCxnSpPr>
              <a:stCxn id="873" idx="3"/>
              <a:endCxn id="865" idx="2"/>
            </p:cNvCxnSpPr>
            <p:nvPr/>
          </p:nvCxnSpPr>
          <p:spPr>
            <a:xfrm flipV="1">
              <a:off x="661176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4" name="_s11272"/>
            <p:cNvCxnSpPr>
              <a:stCxn id="871" idx="1"/>
              <a:endCxn id="875" idx="2"/>
            </p:cNvCxnSpPr>
            <p:nvPr/>
          </p:nvCxnSpPr>
          <p:spPr>
            <a:xfrm rot="10800000">
              <a:off x="2609280" y="4236480"/>
              <a:ext cx="452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6" name="_s11273"/>
            <p:cNvCxnSpPr>
              <a:stCxn id="868" idx="3"/>
              <a:endCxn id="875" idx="2"/>
            </p:cNvCxnSpPr>
            <p:nvPr/>
          </p:nvCxnSpPr>
          <p:spPr>
            <a:xfrm flipV="1">
              <a:off x="2152800" y="4236480"/>
              <a:ext cx="45792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7" name="_s11274"/>
            <p:cNvCxnSpPr>
              <a:stCxn id="865" idx="0"/>
              <a:endCxn id="878" idx="2"/>
            </p:cNvCxnSpPr>
            <p:nvPr/>
          </p:nvCxnSpPr>
          <p:spPr>
            <a:xfrm flipV="1" rot="16200000">
              <a:off x="5591520" y="2524320"/>
              <a:ext cx="219600" cy="23295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9" name="_s11275"/>
            <p:cNvCxnSpPr>
              <a:stCxn id="875" idx="0"/>
              <a:endCxn id="878" idx="2"/>
            </p:cNvCxnSpPr>
            <p:nvPr/>
          </p:nvCxnSpPr>
          <p:spPr>
            <a:xfrm flipH="1" flipV="1" rot="5400000">
              <a:off x="3463560" y="2725200"/>
              <a:ext cx="219600" cy="1927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0" name="_s11276"/>
            <p:cNvCxnSpPr>
              <a:stCxn id="878" idx="0"/>
              <a:endCxn id="881" idx="2"/>
            </p:cNvCxnSpPr>
            <p:nvPr/>
          </p:nvCxnSpPr>
          <p:spPr>
            <a:xfrm flipV="1">
              <a:off x="4537080" y="2769480"/>
              <a:ext cx="21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2" name="_s11277"/>
            <p:cNvCxnSpPr>
              <a:stCxn id="883" idx="0"/>
              <a:endCxn id="881" idx="2"/>
            </p:cNvCxnSpPr>
            <p:nvPr/>
          </p:nvCxnSpPr>
          <p:spPr>
            <a:xfrm flipH="1" flipV="1" rot="5400000">
              <a:off x="2970720" y="1422720"/>
              <a:ext cx="219960" cy="291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1" name="_s11278"/>
            <p:cNvSpPr/>
            <p:nvPr/>
          </p:nvSpPr>
          <p:spPr>
            <a:xfrm>
              <a:off x="3141720" y="2332080"/>
              <a:ext cx="278928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ая компетен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1279"/>
            <p:cNvSpPr/>
            <p:nvPr/>
          </p:nvSpPr>
          <p:spPr>
            <a:xfrm>
              <a:off x="43164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чеведческие знания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_s11280"/>
            <p:cNvSpPr/>
            <p:nvPr/>
          </p:nvSpPr>
          <p:spPr>
            <a:xfrm>
              <a:off x="334476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ые навы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_s11281"/>
            <p:cNvSpPr/>
            <p:nvPr/>
          </p:nvSpPr>
          <p:spPr>
            <a:xfrm>
              <a:off x="1849320" y="3798720"/>
              <a:ext cx="152100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одук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_s11282"/>
            <p:cNvSpPr/>
            <p:nvPr/>
          </p:nvSpPr>
          <p:spPr>
            <a:xfrm>
              <a:off x="6105600" y="3798720"/>
              <a:ext cx="152064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цеп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_s11283"/>
            <p:cNvSpPr/>
            <p:nvPr/>
          </p:nvSpPr>
          <p:spPr>
            <a:xfrm>
              <a:off x="63180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говор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_s11284"/>
            <p:cNvSpPr/>
            <p:nvPr/>
          </p:nvSpPr>
          <p:spPr>
            <a:xfrm>
              <a:off x="306216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исьм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_s11285"/>
            <p:cNvSpPr/>
            <p:nvPr/>
          </p:nvSpPr>
          <p:spPr>
            <a:xfrm>
              <a:off x="509112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чт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_s11286"/>
            <p:cNvSpPr/>
            <p:nvPr/>
          </p:nvSpPr>
          <p:spPr>
            <a:xfrm>
              <a:off x="2862360" y="5113440"/>
              <a:ext cx="19224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но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_s11287"/>
            <p:cNvSpPr/>
            <p:nvPr/>
          </p:nvSpPr>
          <p:spPr>
            <a:xfrm>
              <a:off x="431640" y="5113440"/>
              <a:ext cx="192276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диа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_s11288"/>
            <p:cNvSpPr/>
            <p:nvPr/>
          </p:nvSpPr>
          <p:spPr>
            <a:xfrm>
              <a:off x="712008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ауд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2152800" y="4869000"/>
              <a:ext cx="16556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7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10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Схема 6" descr=""/>
          <p:cNvPicPr/>
          <p:nvPr/>
        </p:nvPicPr>
        <p:blipFill>
          <a:blip r:embed="rId3"/>
          <a:stretch/>
        </p:blipFill>
        <p:spPr>
          <a:xfrm>
            <a:off x="1444680" y="1390680"/>
            <a:ext cx="6804000" cy="49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Содержимое 5" descr="hello_html_m53a260db.jpg"/>
          <p:cNvPicPr/>
          <p:nvPr/>
        </p:nvPicPr>
        <p:blipFill>
          <a:blip r:embed="rId1"/>
          <a:stretch/>
        </p:blipFill>
        <p:spPr>
          <a:xfrm>
            <a:off x="755640" y="549360"/>
            <a:ext cx="784548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116000" y="404640"/>
          <a:ext cx="7497720" cy="6365880"/>
        </p:xfrm>
        <a:graphic>
          <a:graphicData uri="http://schemas.openxmlformats.org/drawingml/2006/table">
            <a:tbl>
              <a:tblPr/>
              <a:tblGrid>
                <a:gridCol w="3745080"/>
                <a:gridCol w="375264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м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 близок к письменн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узы, уточнение мысли, пов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ая лексическая 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ечевых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, доклад, выступление, отчёт, п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, интервью, репортаж, выступление в диску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" descr=""/>
          <p:cNvPicPr/>
          <p:nvPr/>
        </p:nvPicPr>
        <p:blipFill>
          <a:blip r:embed="rId2"/>
          <a:stretch/>
        </p:blipFill>
        <p:spPr>
          <a:xfrm>
            <a:off x="826920" y="157464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894" name="Схема 8" descr=""/>
          <p:cNvPicPr/>
          <p:nvPr/>
        </p:nvPicPr>
        <p:blipFill>
          <a:blip r:embed="rId3"/>
          <a:stretch/>
        </p:blipFill>
        <p:spPr>
          <a:xfrm>
            <a:off x="3255840" y="1378080"/>
            <a:ext cx="5297760" cy="4120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6" name="Схема 8" descr=""/>
          <p:cNvPicPr/>
          <p:nvPr/>
        </p:nvPicPr>
        <p:blipFill>
          <a:blip r:embed="rId2"/>
          <a:stretch/>
        </p:blipFill>
        <p:spPr>
          <a:xfrm>
            <a:off x="3255840" y="1395360"/>
            <a:ext cx="5297760" cy="41036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Группа 15"/>
          <p:cNvGrpSpPr/>
          <p:nvPr/>
        </p:nvGrpSpPr>
        <p:grpSpPr>
          <a:xfrm>
            <a:off x="1186920" y="1773360"/>
            <a:ext cx="879840" cy="1484280"/>
            <a:chOff x="1186920" y="1773360"/>
            <a:chExt cx="879840" cy="1484280"/>
          </a:xfrm>
        </p:grpSpPr>
        <p:sp>
          <p:nvSpPr>
            <p:cNvPr id="899" name="Нашивка 16"/>
            <p:cNvSpPr/>
            <p:nvPr/>
          </p:nvSpPr>
          <p:spPr>
            <a:xfrm rot="5400000">
              <a:off x="884160" y="2075760"/>
              <a:ext cx="1484280" cy="8794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72bfc5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Нашивка 4"/>
            <p:cNvSpPr/>
            <p:nvPr/>
          </p:nvSpPr>
          <p:spPr>
            <a:xfrm>
              <a:off x="1187280" y="2292480"/>
              <a:ext cx="87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Группа 18"/>
          <p:cNvGrpSpPr/>
          <p:nvPr/>
        </p:nvGrpSpPr>
        <p:grpSpPr>
          <a:xfrm>
            <a:off x="2124000" y="1773360"/>
            <a:ext cx="4556160" cy="1079280"/>
            <a:chOff x="2124000" y="1773360"/>
            <a:chExt cx="4556160" cy="1079280"/>
          </a:xfrm>
        </p:grpSpPr>
        <p:sp>
          <p:nvSpPr>
            <p:cNvPr id="902" name="Прямоугольник с двумя скругленными соседними углами 19"/>
            <p:cNvSpPr/>
            <p:nvPr/>
          </p:nvSpPr>
          <p:spPr>
            <a:xfrm rot="5400000">
              <a:off x="3862440" y="34560"/>
              <a:ext cx="1079280" cy="4556160"/>
            </a:xfrm>
            <a:custGeom>
              <a:avLst/>
              <a:gdLst>
                <a:gd name="textAreaLeft" fmla="*/ 52560 w 1079280"/>
                <a:gd name="textAreaRight" fmla="*/ 1026720 w 1079280"/>
                <a:gd name="textAreaTop" fmla="*/ 5076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964803" h="4217565">
                  <a:moveTo>
                    <a:pt x="160804" y="0"/>
                  </a:moveTo>
                  <a:lnTo>
                    <a:pt x="803999" y="0"/>
                  </a:lnTo>
                  <a:lnTo>
                    <a:pt x="803999" y="0"/>
                  </a:lnTo>
                  <a:arcTo wR="160804" hR="160804" stAng="-5400000" swAng="5400000"/>
                  <a:lnTo>
                    <a:pt x="964803" y="4217565"/>
                  </a:lnTo>
                  <a:lnTo>
                    <a:pt x="0" y="4217565"/>
                  </a:lnTo>
                  <a:lnTo>
                    <a:pt x="0" y="160804"/>
                  </a:lnTo>
                  <a:lnTo>
                    <a:pt x="0" y="160804"/>
                  </a:lnTo>
                  <a:arcTo wR="160804" hR="160804" stAng="10800000" swAng="5400000"/>
                  <a:close/>
                </a:path>
              </a:pathLst>
            </a:custGeom>
            <a:solidFill>
              <a:srgbClr val="d9d9d9">
                <a:alpha val="9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Прямоугольник 20"/>
            <p:cNvSpPr/>
            <p:nvPr/>
          </p:nvSpPr>
          <p:spPr>
            <a:xfrm>
              <a:off x="2124000" y="1825560"/>
              <a:ext cx="450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7640" tIns="17640" bIns="176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тение тек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39280" y="328464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льность речи (ключевые слова, логическое ударение, пау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жение слов при чт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о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295640" cy="917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1584360" cy="100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каждому вопросу фиксир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речевая связность и последовательность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чевых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м  5-и ответам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 в ответах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8720" cy="107964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ая верс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й диало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оцен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65600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Прямоугольник 5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3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Заголовок 1"/>
          <p:cNvSpPr/>
          <p:nvPr/>
        </p:nvSpPr>
        <p:spPr>
          <a:xfrm>
            <a:off x="900000" y="4428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хема оценивания заданий 3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н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" descr=""/>
          <p:cNvPicPr/>
          <p:nvPr/>
        </p:nvPicPr>
        <p:blipFill>
          <a:blip r:embed="rId3"/>
          <a:stretch/>
        </p:blipFill>
        <p:spPr>
          <a:xfrm>
            <a:off x="6516720" y="62064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т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отв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ысловая цельность, речевая связность и последовательность излож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ичие речевых ошиб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людение языковых нор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365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о выступ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Содержимое 4" descr=""/>
          <p:cNvPicPr/>
          <p:nvPr/>
        </p:nvPicPr>
        <p:blipFill>
          <a:blip r:embed="rId1"/>
          <a:stretch/>
        </p:blipFill>
        <p:spPr>
          <a:xfrm>
            <a:off x="438120" y="1663560"/>
            <a:ext cx="8126280" cy="4488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918" name="Схема 8" descr=""/>
          <p:cNvPicPr/>
          <p:nvPr/>
        </p:nvPicPr>
        <p:blipFill>
          <a:blip r:embed="rId2"/>
          <a:stretch/>
        </p:blipFill>
        <p:spPr>
          <a:xfrm>
            <a:off x="3255840" y="1407960"/>
            <a:ext cx="5381640" cy="4091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вариант бес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9640" y="2276640"/>
            <a:ext cx="7920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Мой любимый вид спорта (на основе описания фотограф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Мой поход (экскурсия), который запомнился мне больше всего (повествование на основе жизненного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сегда ли нужно следовать моде? (рассуждение по поставленному во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40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данного подхо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539280" y="1413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е и понятные  изменения в ГИ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азнообразных форм и видов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итоговой аттестации не выносится исключительно на последнюю ступень обучения, 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11  класс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отдельного уче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енциальный участник экзамена постоянно находится  в зоне своего ближа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от учителя осмысления не только своих целей, но и целей учени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ния его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фессиональном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ель осуществляет мотивированное управление учеником – меняется парадигма деятельности учителя: он управленец, консультант, координатор, помощник, исследов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708360" y="3573360"/>
            <a:ext cx="475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булько Ирина Петровн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комиссии разработчи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х измерительных материалов для государственной итоговой аттестации, ведущий научный сотрудник ФГБНУ «ФИП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772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сновные концептуальные подходы к построению экзаменационной  модели ГИА (ЕГЭ и ОГЭ)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проявляющийся как во внутреннем, так и во  внешнем по отношению к системе языка (речи) единстве измеряемых умений; в интеграции подходов к проверке когнитивного и речевого развития экзаменуемого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-деятель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основой которого является система заданий, проверяющих сформированность коммуникативных умений, обеспечивающих стабильность и успешность коммуникативной практики выпускника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адиционно связывающийся с направленностью измерителя на проверку способности осуществлять такие универсальные учебные действия, как сравнение, анализ, синтез, абстракция, обобщение, классификация, конкретизация, установление определённых закономерностей и правил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полагающий ориентацию экзаменационной модели на запросы, возможности экзамену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708360" y="1413000"/>
          <a:ext cx="5040360" cy="838080"/>
        </p:xfrm>
        <a:graphic>
          <a:graphicData uri="http://schemas.openxmlformats.org/drawingml/2006/table">
            <a:tbl>
              <a:tblPr/>
              <a:tblGrid>
                <a:gridCol w="1079640"/>
                <a:gridCol w="3960720"/>
              </a:tblGrid>
              <a:tr h="8380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 подготовки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7" name="Диаграмма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048120" cy="1609920"/>
          </a:xfrm>
          <a:prstGeom prst="rect">
            <a:avLst/>
          </a:prstGeom>
          <a:ln w="0">
            <a:noFill/>
          </a:ln>
        </p:spPr>
      </p:pic>
      <p:pic>
        <p:nvPicPr>
          <p:cNvPr id="838" name="Диаграмма 5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2484360" y="2708280"/>
            <a:ext cx="2562480" cy="1584360"/>
          </a:xfrm>
          <a:prstGeom prst="rect">
            <a:avLst/>
          </a:prstGeom>
          <a:ln w="0">
            <a:noFill/>
          </a:ln>
        </p:spPr>
      </p:pic>
      <p:pic>
        <p:nvPicPr>
          <p:cNvPr id="839" name="Рисунок 7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840" name="Диаграмма 3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79108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20" descr=""/>
          <p:cNvPicPr/>
          <p:nvPr/>
        </p:nvPicPr>
        <p:blipFill>
          <a:blip r:embed="rId1"/>
          <a:stretch/>
        </p:blipFill>
        <p:spPr>
          <a:xfrm>
            <a:off x="1682640" y="4664160"/>
            <a:ext cx="5052960" cy="2206440"/>
          </a:xfrm>
          <a:prstGeom prst="rect">
            <a:avLst/>
          </a:prstGeom>
          <a:ln w="0">
            <a:noFill/>
          </a:ln>
        </p:spPr>
      </p:pic>
      <p:sp>
        <p:nvSpPr>
          <p:cNvPr id="842" name="Line 152"/>
          <p:cNvSpPr/>
          <p:nvPr/>
        </p:nvSpPr>
        <p:spPr>
          <a:xfrm>
            <a:off x="2988360" y="1422000"/>
            <a:ext cx="1511640" cy="3952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Group 111" descr=""/>
          <p:cNvPicPr/>
          <p:nvPr/>
        </p:nvPicPr>
        <p:blipFill>
          <a:blip r:embed="rId2"/>
          <a:stretch/>
        </p:blipFill>
        <p:spPr>
          <a:xfrm>
            <a:off x="5857920" y="822240"/>
            <a:ext cx="1706400" cy="951120"/>
          </a:xfrm>
          <a:prstGeom prst="rect">
            <a:avLst/>
          </a:prstGeom>
          <a:ln w="0">
            <a:noFill/>
          </a:ln>
        </p:spPr>
      </p:pic>
      <p:pic>
        <p:nvPicPr>
          <p:cNvPr id="844" name="Group 113" descr=""/>
          <p:cNvPicPr/>
          <p:nvPr/>
        </p:nvPicPr>
        <p:blipFill>
          <a:blip r:embed="rId3"/>
          <a:stretch/>
        </p:blipFill>
        <p:spPr>
          <a:xfrm>
            <a:off x="1316160" y="682560"/>
            <a:ext cx="2554200" cy="1225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26"/>
          <p:cNvSpPr/>
          <p:nvPr/>
        </p:nvSpPr>
        <p:spPr>
          <a:xfrm>
            <a:off x="611280" y="2133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ые проблемы филологическ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0"/>
          <p:cNvSpPr/>
          <p:nvPr/>
        </p:nvSpPr>
        <p:spPr>
          <a:xfrm>
            <a:off x="5148360" y="155736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я в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32"/>
          <p:cNvSpPr/>
          <p:nvPr/>
        </p:nvSpPr>
        <p:spPr>
          <a:xfrm flipH="1">
            <a:off x="4140360" y="1628640"/>
            <a:ext cx="2303280" cy="3745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34"/>
          <p:cNvSpPr/>
          <p:nvPr/>
        </p:nvSpPr>
        <p:spPr>
          <a:xfrm flipH="1">
            <a:off x="3131640" y="1700280"/>
            <a:ext cx="3311640" cy="0"/>
          </a:xfrm>
          <a:prstGeom prst="line">
            <a:avLst/>
          </a:prstGeom>
          <a:ln w="19080">
            <a:solidFill>
              <a:srgbClr val="fe4e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6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1042920" y="1413000"/>
            <a:ext cx="7416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ношение  содержания государственной итоговой аттестации выпускников 9 классов общеобразовательных учреждений (ГИА) и единого государственного экзамена (ЕГЭ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нутриуровневая дифференциация содержания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силение коммуникативной направленности экзаменацион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«сквозной» системы заданий, позволяющих проверить элементы освоения предметных компетенций экзаменуемых, находящихся в «зоне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облемы филолог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4920" y="1988640"/>
            <a:ext cx="8064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ийная неосвоен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семантическое опустошение» (Р.Фрумкин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ами базовых концептов рус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концеп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езультат влияния массовой культуры на коммуникативное поведение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е сворачивание количества слов в индивидуальном лексик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ов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Содержимое 3" descr="NOSMOKING.RU - &amp;Ncy;&amp;IEcy; &amp;Kcy;&amp;Ucy;&amp;Rcy;&amp;Icy;&amp;Mcy;! * &amp;Pcy;&amp;rcy;&amp;ocy;&amp;scy;&amp;mcy;&amp;ocy;&amp;tcy;&amp;rcy; &amp;tcy;&amp;iecy;&amp;mcy;&amp;ycy; - &amp;Icy;&amp;gcy;&amp;rcy;&amp;acy; &quot;&amp;Pcy;&amp;rcy;&amp;ocy;&amp;dcy;&amp;ocy;&amp;lcy;&amp;zhcy;&amp;icy; &amp;scy;&amp;lcy;&amp;ocy;&amp;vcy;&amp;ocy;&quot;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24800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4" descr="&amp;Bcy;&amp;Lcy;&amp;Acy;&amp;Gcy;&amp;Ocy;&amp;Ucy;&amp;Scy;&amp;Tcy;&amp;Rcy;&amp;Ocy;&amp;Jcy;&amp;Scy;&amp;Tcy;&amp;Vcy;&amp;Ocy;, &amp;Ocy;&amp;Zcy;&amp;IEcy;&amp;Lcy;&amp;IEcy;&amp;Ncy;&amp;IEcy;&amp;Ncy;&amp;Icy;&amp;IEcy; &amp;Vcy;&amp;iecy;&amp;rcy;&amp;tcy;&amp;icy;&amp;kcy;&amp;acy;&amp;lcy;&amp;softcy;&amp;ncy;&amp;ocy;&amp;iecy; &amp;ocy;&amp;zcy;&amp;iecy;&amp;lcy;&amp;iecy;&amp;ncy;&amp;iecy;&amp;ncy;&amp;icy;&amp;iecy;-&amp;Lcy;&amp;acy;&amp;ncy;&amp;dcy;&amp;shcy;&amp;acy;&amp;fcy;&amp;tcy; &amp;pcy;&amp;rcy;&amp;ocy;&amp;iecy;&amp;kcy;&amp;tcy;"/>
          <p:cNvPicPr/>
          <p:nvPr/>
        </p:nvPicPr>
        <p:blipFill>
          <a:blip r:embed="rId2"/>
          <a:stretch/>
        </p:blipFill>
        <p:spPr>
          <a:xfrm>
            <a:off x="4572000" y="1981080"/>
            <a:ext cx="3456000" cy="3319560"/>
          </a:xfrm>
          <a:prstGeom prst="rect">
            <a:avLst/>
          </a:prstGeom>
          <a:ln w="0">
            <a:noFill/>
          </a:ln>
        </p:spPr>
      </p:pic>
      <p:sp>
        <p:nvSpPr>
          <p:cNvPr id="854" name="Прямоугольник 5"/>
          <p:cNvSpPr/>
          <p:nvPr/>
        </p:nvSpPr>
        <p:spPr>
          <a:xfrm>
            <a:off x="3780000" y="62064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Ирочка</cp:lastModifiedBy>
  <cp:lastPrinted>2014-09-25T10:46:37Z</cp:lastPrinted>
  <dcterms:modified xsi:type="dcterms:W3CDTF">2016-10-27T19:32:32Z</dcterms:modified>
  <cp:revision>895</cp:revision>
  <dc:subject/>
  <dc:title>Презентация PowerPoint</dc:title>
</cp:coreProperties>
</file>